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11.gif" ContentType="image/gif"/>
  <Override PartName="/ppt/media/image14.png" ContentType="image/png"/>
  <Override PartName="/ppt/media/image5.jpeg" ContentType="image/jpeg"/>
  <Override PartName="/ppt/media/image1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1DD-14B4-4C15-BDAB-A02ED218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1443-7361-41D6-84B0-5AAEDAED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99CE-35F4-4BA2-84CD-DBC62483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F59-6329-4702-AAC5-140578A1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609C-76BA-4AEB-9472-83A9E147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9332-6729-49A9-8C8D-5F791FF4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0128-0D41-46BA-B3FF-6FD3AE19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607F3-4B03-4694-B820-03CA615E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1B0DF-A323-471C-A425-54F053D7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D2EC-F961-42CC-9B09-54F1C091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0530-B0B4-45FE-ABD0-8D2A91E1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0182-9A1F-465E-97EE-EAFC26F2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A431-E4A5-490E-8C82-DF9DA398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7A88-9216-48D6-BC58-175AFFD9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D3C8-36D2-434B-8020-AB96A9B3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A5B2-8B11-471C-8493-D682BB61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2EFB3-6219-49C6-9FA3-2B8F2106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357-CF74-41F9-84EF-3E0E6C2A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CD2-6084-42F7-B433-D482403D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E82-32CB-4586-A198-01AA2D736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C07D-C7C2-4F99-AA60-999699B1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91D-01B8-4698-BC5D-EA431822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A84-896B-413E-B57E-EB14FBA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9D5F-BBB8-4853-BDCB-51357FDD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B6640-A0CF-4446-B9A1-E7C9A3487147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F9257-2DFD-4C4A-B113-77F762181925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D0E7F-8B5F-4D43-8F4B-B2E935F74C7B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4E5A28-64A5-468C-B97A-EA5DA0A2D242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apter 4</a:t>
            </a:r>
            <a:br>
              <a:rPr sz="4600"/>
            </a:b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ular Processes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Mr. Cobb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News Gothic MT"/>
              </a:rPr>
              <a:t>General Biology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ell Processes with Ener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otosynthesis – changing light energy to chemical energy - chloroplas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ellular Respiration – changing chemical energy into ATP - mitochondri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9" name="Picture 3" descr="respire.gif"/>
          <p:cNvPicPr/>
          <p:nvPr/>
        </p:nvPicPr>
        <p:blipFill>
          <a:blip r:embed="rId2"/>
          <a:stretch/>
        </p:blipFill>
        <p:spPr>
          <a:xfrm>
            <a:off x="4038480" y="5029200"/>
            <a:ext cx="4330800" cy="1270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photosynthesis_reaction_eng.gif"/>
          <p:cNvPicPr/>
          <p:nvPr/>
        </p:nvPicPr>
        <p:blipFill>
          <a:blip r:embed="rId3"/>
          <a:stretch/>
        </p:blipFill>
        <p:spPr>
          <a:xfrm>
            <a:off x="838080" y="2789280"/>
            <a:ext cx="49532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mpare the reaction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6 C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+  6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  +  Light           C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6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1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6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+   6 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6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1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6  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+   6 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         6 C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 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+  6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  +  ATP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y are opposites!!!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3538080" y="4107960"/>
            <a:ext cx="686520" cy="252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4419360" y="2513160"/>
            <a:ext cx="686520" cy="216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Image150.gif"/>
          <p:cNvPicPr/>
          <p:nvPr/>
        </p:nvPicPr>
        <p:blipFill>
          <a:blip r:embed="rId2"/>
          <a:stretch/>
        </p:blipFill>
        <p:spPr>
          <a:xfrm>
            <a:off x="2438280" y="0"/>
            <a:ext cx="4778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hotosynthe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ight energy into chemical energy and Oxygen by chloroplas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lants, algae, and bacteri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re are two main reactions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1.  Light dependent reac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.  Light Independent reaction (Calvin Cycl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8" name="Picture 3" descr="250px-BrambleLeaf_CrossPolarisedLight_Diagram.jpg"/>
          <p:cNvPicPr/>
          <p:nvPr/>
        </p:nvPicPr>
        <p:blipFill>
          <a:blip r:embed="rId2"/>
          <a:stretch/>
        </p:blipFill>
        <p:spPr>
          <a:xfrm>
            <a:off x="5692680" y="2286000"/>
            <a:ext cx="238140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8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8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8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Wavelengths of light absorbed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49000" y="1599840"/>
            <a:ext cx="8042040" cy="4343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3"/>
          <a:srcRect l="0" t="0" r="0" b="63345"/>
          <a:stretch/>
        </p:blipFill>
        <p:spPr>
          <a:xfrm>
            <a:off x="590400" y="1444680"/>
            <a:ext cx="8001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hlorophyll molecul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g. 100 in book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4 types a, b, c, 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molecule absorbs most energ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"/>
          <p:cNvPicPr/>
          <p:nvPr/>
        </p:nvPicPr>
        <p:blipFill>
          <a:blip r:embed="rId2"/>
          <a:srcRect l="0" t="0" r="0" b="3446"/>
          <a:stretch/>
        </p:blipFill>
        <p:spPr>
          <a:xfrm>
            <a:off x="152280" y="380880"/>
            <a:ext cx="899172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ght Rea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ight required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ergize chlorophyll a molecu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lorophyll a rips H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 molecul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is released as was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 electrons leave the chlorophyll a molecule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cation:  electron transport chain in the thylakoid membran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24720" indent="-32472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kes ATP and NADP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ght Rea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otosystem II and Photosystem I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NOTE: Products are NADP is turned into NADP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DP + P is turned into ATP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hemiosmosis is the movement of Hydrogen ions caused by a concentration gradient (diffusion).  This creates the ATP as the H ions go through the ATP synthas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ese are used in the Calvin cyc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ght reactio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0" name="Content Placeholder 3" descr="500px-Thylakoid_membrane.png"/>
          <p:cNvPicPr/>
          <p:nvPr/>
        </p:nvPicPr>
        <p:blipFill>
          <a:blip r:embed="rId2"/>
          <a:srcRect l="-2766" t="0" r="-2766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Everything that lives and mov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will be food for you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Just as I gave you the green plants,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I now give you everything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 algn="ctr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omic Sans MS"/>
              </a:rPr>
              <a:t>Genesis 9:3 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ight Independent Phas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lvin Cycle and Carbon Fixation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elvin Calvin – nobel priz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cation: Stroma of chloroplas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Uses ATP and NADPH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“cycle” begins and ends with RuBP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kes 2 PGAL molecu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4" name="Content Placeholder 3" descr="calvin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6" name="Content Placeholder 3" descr="ccoverview.gif"/>
          <p:cNvPicPr/>
          <p:nvPr/>
        </p:nvPicPr>
        <p:blipFill>
          <a:blip r:embed="rId2"/>
          <a:srcRect l="-19433" t="0" r="-19433" b="0"/>
          <a:stretch/>
        </p:blipFill>
        <p:spPr>
          <a:xfrm>
            <a:off x="-1219320" y="108000"/>
            <a:ext cx="11287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38" name="Content Placeholder 3" descr="imgres15.gif"/>
          <p:cNvPicPr/>
          <p:nvPr/>
        </p:nvPicPr>
        <p:blipFill>
          <a:blip r:embed="rId2"/>
          <a:srcRect l="-21240" t="0" r="-21240" b="0"/>
          <a:stretch/>
        </p:blipFill>
        <p:spPr>
          <a:xfrm>
            <a:off x="-990720" y="0"/>
            <a:ext cx="112251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GAL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Phosphoglyceraldehy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 3 carbon molecule –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PGALs make a glucose, which is a 6 carbon molecu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ow many C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molecules to make a glucose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Key points to the Calvin Cycl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ubisco is a major enzyme in the reaction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uBP – Ribulose BiPhoshate is the start and en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is only a series of chemical reactions that happen outside the Thylakoid in the the strom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2 PGALs make a glucose molecu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9 ATPs and 6 NADPH are used to make 1 PG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onditions for Photosynthesi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orrect wavelengths and light intensity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ough CO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2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Right Temperatur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lternate Pathway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3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pathway – the normal pathway, making 3 carbon molecul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AM pathway – only open stomata at night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</a:t>
            </a:r>
            <a:r>
              <a:rPr b="0" lang="en-US" sz="2400" spc="-1" strike="noStrike" baseline="-25000">
                <a:solidFill>
                  <a:srgbClr val="595959"/>
                </a:solidFill>
                <a:latin typeface="News Gothic MT"/>
              </a:rPr>
              <a:t>4</a:t>
            </a: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 pathway- open stomata partially, they can make 4 carbon molecules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0"/>
          <p:cNvPicPr/>
          <p:nvPr/>
        </p:nvPicPr>
        <p:blipFill>
          <a:blip r:embed="rId2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1" descr="6522193.gif"/>
          <p:cNvPicPr/>
          <p:nvPr/>
        </p:nvPicPr>
        <p:blipFill>
          <a:blip r:embed="rId2"/>
          <a:stretch/>
        </p:blipFill>
        <p:spPr>
          <a:xfrm>
            <a:off x="-23760" y="152280"/>
            <a:ext cx="916776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ets talk about ener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7" name="Content Placeholder 3" descr="lightning-over-water_270_600x450.jpg"/>
          <p:cNvPicPr/>
          <p:nvPr/>
        </p:nvPicPr>
        <p:blipFill>
          <a:blip r:embed="rId2"/>
          <a:srcRect l="-19433" t="0" r="-19433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8243726.jpg"/>
          <p:cNvPicPr/>
          <p:nvPr/>
        </p:nvPicPr>
        <p:blipFill>
          <a:blip r:embed="rId2"/>
          <a:stretch/>
        </p:blipFill>
        <p:spPr>
          <a:xfrm>
            <a:off x="210960" y="0"/>
            <a:ext cx="847584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026" descr="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027"/>
          <p:cNvSpPr/>
          <p:nvPr/>
        </p:nvSpPr>
        <p:spPr>
          <a:xfrm>
            <a:off x="2133720" y="0"/>
            <a:ext cx="6553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The Chlorop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-double membrane, stroma, thylakoid, gr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rganism Ener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utotrophs – make their own foo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0" name="Picture 3" descr="250px-Diversity_of_plants_image_version_5.png"/>
          <p:cNvPicPr/>
          <p:nvPr/>
        </p:nvPicPr>
        <p:blipFill>
          <a:blip r:embed="rId2"/>
          <a:stretch/>
        </p:blipFill>
        <p:spPr>
          <a:xfrm>
            <a:off x="609480" y="2212920"/>
            <a:ext cx="2971800" cy="4407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a plant.gif"/>
          <p:cNvPicPr/>
          <p:nvPr/>
        </p:nvPicPr>
        <p:blipFill>
          <a:blip r:embed="rId3"/>
          <a:stretch/>
        </p:blipFill>
        <p:spPr>
          <a:xfrm>
            <a:off x="4495680" y="2201760"/>
            <a:ext cx="388620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Organism Ener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eterotrophs – get energy from consuming other organisms as a food sourc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94" name="Picture 3" descr="Best-National-Geographic-10.jpg"/>
          <p:cNvPicPr/>
          <p:nvPr/>
        </p:nvPicPr>
        <p:blipFill>
          <a:blip r:embed="rId2"/>
          <a:stretch/>
        </p:blipFill>
        <p:spPr>
          <a:xfrm>
            <a:off x="457200" y="2666880"/>
            <a:ext cx="3178080" cy="38862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Best-National-Geographic-07.jpg"/>
          <p:cNvPicPr/>
          <p:nvPr/>
        </p:nvPicPr>
        <p:blipFill>
          <a:blip r:embed="rId3"/>
          <a:stretch/>
        </p:blipFill>
        <p:spPr>
          <a:xfrm>
            <a:off x="3809880" y="2671920"/>
            <a:ext cx="507996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TP – Energy Currenc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Adenosine Triphosphate – fuel for the cell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Made of: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Adenosine 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lnSpc>
                <a:spcPct val="80000"/>
              </a:lnSpc>
              <a:spcBef>
                <a:spcPts val="6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3 phosphat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Potential energy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Energy is in what part of the molecule???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News Gothic MT"/>
              </a:rPr>
              <a:t>The BONDS!!!</a:t>
            </a: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TP Energ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TP          ADP + P + Energy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Hydrolysis reaction  - “breaking with water”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Energy released in the bond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cxnSp>
        <p:nvCxnSpPr>
          <p:cNvPr id="100" name="Straight Arrow Connector 6"/>
          <p:cNvCxnSpPr/>
          <p:nvPr/>
        </p:nvCxnSpPr>
        <p:spPr>
          <a:xfrm>
            <a:off x="1676160" y="1902960"/>
            <a:ext cx="686520" cy="2520"/>
          </a:xfrm>
          <a:prstGeom prst="straightConnector1">
            <a:avLst/>
          </a:prstGeom>
          <a:ln w="25560">
            <a:solidFill>
              <a:srgbClr val="2c7c9f"/>
            </a:solidFill>
            <a:miter/>
            <a:tailEnd len="med" type="arrow" w="med"/>
          </a:ln>
        </p:spPr>
      </p:cxnSp>
      <p:pic>
        <p:nvPicPr>
          <p:cNvPr id="101" name="Picture 7" descr="ATP_ADP.gif"/>
          <p:cNvPicPr/>
          <p:nvPr/>
        </p:nvPicPr>
        <p:blipFill>
          <a:blip r:embed="rId2"/>
          <a:stretch/>
        </p:blipFill>
        <p:spPr>
          <a:xfrm>
            <a:off x="152280" y="3565440"/>
            <a:ext cx="89917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TP 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3" name="Content Placeholder 3" descr="atp animation.gif"/>
          <p:cNvPicPr/>
          <p:nvPr/>
        </p:nvPicPr>
        <p:blipFill>
          <a:blip r:embed="rId2"/>
          <a:srcRect l="-40910" t="0" r="-40910" b="0"/>
          <a:stretch/>
        </p:blipFill>
        <p:spPr>
          <a:xfrm>
            <a:off x="-175248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Atp.gif"/>
          <p:cNvPicPr/>
          <p:nvPr/>
        </p:nvPicPr>
        <p:blipFill>
          <a:blip r:embed="rId3"/>
          <a:stretch/>
        </p:blipFill>
        <p:spPr>
          <a:xfrm>
            <a:off x="4822920" y="2209680"/>
            <a:ext cx="4321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ATP Fun Fact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Made by each cell to be used by that cel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t is not very stabl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Being constantly made by our cell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4:32:14Z</dcterms:created>
  <dc:creator>Jason Cobb</dc:creator>
  <dc:description/>
  <dc:language>en-US</dc:language>
  <cp:lastModifiedBy>Jason Cobb</cp:lastModifiedBy>
  <dcterms:modified xsi:type="dcterms:W3CDTF">2011-11-06T22:38:49Z</dcterms:modified>
  <cp:revision>16</cp:revision>
  <dc:subject/>
  <dc:title>Chapter 4 Cellular Processes </dc:title>
</cp:coreProperties>
</file>